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14.png" ContentType="image/png"/>
  <Override PartName="/ppt/media/image9.wmf" ContentType="image/x-wmf"/>
  <Override PartName="/ppt/media/image5.wmf" ContentType="image/x-wmf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8760" y="8564400"/>
            <a:ext cx="162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2144880" y="1606680"/>
            <a:ext cx="2569680" cy="3157200"/>
            <a:chOff x="2144880" y="1606680"/>
            <a:chExt cx="2569680" cy="3157200"/>
          </a:xfrm>
        </p:grpSpPr>
        <p:grpSp>
          <p:nvGrpSpPr>
            <p:cNvPr id="39" name=""/>
            <p:cNvGrpSpPr/>
            <p:nvPr/>
          </p:nvGrpSpPr>
          <p:grpSpPr>
            <a:xfrm>
              <a:off x="2144880" y="1606680"/>
              <a:ext cx="2479320" cy="3048480"/>
              <a:chOff x="2144880" y="1606680"/>
              <a:chExt cx="2479320" cy="3048480"/>
            </a:xfrm>
          </p:grpSpPr>
          <p:sp>
            <p:nvSpPr>
              <p:cNvPr id="40" name=""/>
              <p:cNvSpPr/>
              <p:nvPr/>
            </p:nvSpPr>
            <p:spPr>
              <a:xfrm>
                <a:off x="2144880" y="1606680"/>
                <a:ext cx="2479320" cy="304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4303080" y="3579480"/>
                <a:ext cx="291600" cy="446400"/>
                <a:chOff x="4303080" y="3579480"/>
                <a:chExt cx="291600" cy="44640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4303080" y="3579480"/>
                  <a:ext cx="291600" cy="44640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303080" y="3579480"/>
                  <a:ext cx="291600" cy="44640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" name=""/>
              <p:cNvSpPr/>
              <p:nvPr/>
            </p:nvSpPr>
            <p:spPr>
              <a:xfrm>
                <a:off x="2497680" y="1655280"/>
                <a:ext cx="1805400" cy="254844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497680" y="1655280"/>
                <a:ext cx="1817640" cy="256284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193480" y="3875760"/>
                <a:ext cx="2398680" cy="757800"/>
                <a:chOff x="2193480" y="3875760"/>
                <a:chExt cx="2398680" cy="75780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193480" y="3875760"/>
                  <a:ext cx="2398680" cy="7578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193480" y="3875760"/>
                  <a:ext cx="2398680" cy="75780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193480" y="3579480"/>
                <a:ext cx="287640" cy="446400"/>
                <a:chOff x="2193480" y="3579480"/>
                <a:chExt cx="287640" cy="44640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2193480" y="3579480"/>
                  <a:ext cx="287640" cy="44640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193480" y="3579480"/>
                  <a:ext cx="287640" cy="44640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2742480" y="1987560"/>
                <a:ext cx="291600" cy="46260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42480" y="1987560"/>
                <a:ext cx="305640" cy="47556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32600" y="1776960"/>
                <a:ext cx="112320" cy="15624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32600" y="1776960"/>
                <a:ext cx="126360" cy="17172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20080" y="1877400"/>
                <a:ext cx="240120" cy="28620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20080" y="1877400"/>
                <a:ext cx="251640" cy="30204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2966040" y="3052080"/>
                <a:ext cx="835200" cy="539640"/>
                <a:chOff x="2966040" y="3052080"/>
                <a:chExt cx="835200" cy="539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966040" y="3052080"/>
                  <a:ext cx="835200" cy="53964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966040" y="3052080"/>
                  <a:ext cx="835200" cy="53964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3380400" y="3174120"/>
                <a:ext cx="1080" cy="40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060720" y="3458880"/>
                <a:ext cx="6602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48440" y="3126600"/>
                <a:ext cx="11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3636000" y="2354400"/>
                <a:ext cx="392040" cy="932400"/>
                <a:chOff x="3636000" y="2354400"/>
                <a:chExt cx="392040" cy="9324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636000" y="2354400"/>
                  <a:ext cx="392040" cy="9324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636000" y="2354400"/>
                  <a:ext cx="392040" cy="9324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930840" y="2759760"/>
                <a:ext cx="85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19680" y="2413080"/>
                <a:ext cx="23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3745440" y="3123720"/>
                <a:ext cx="2401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2950920" y="1954800"/>
                <a:ext cx="792000" cy="537120"/>
                <a:chOff x="2950920" y="1954800"/>
                <a:chExt cx="792000" cy="5371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950920" y="1954800"/>
                  <a:ext cx="792000" cy="53712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950920" y="1954800"/>
                  <a:ext cx="792000" cy="53712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 flipV="1">
                <a:off x="3380400" y="1938960"/>
                <a:ext cx="1080" cy="434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31560" y="2111040"/>
                <a:ext cx="6861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57920" y="240300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2742480" y="2297160"/>
                <a:ext cx="376560" cy="986760"/>
                <a:chOff x="2742480" y="2297160"/>
                <a:chExt cx="376560" cy="986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742480" y="2297160"/>
                  <a:ext cx="376560" cy="98676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742480" y="2297160"/>
                  <a:ext cx="376560" cy="98676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 flipH="1">
                <a:off x="2729880" y="275976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29960" y="2413080"/>
                <a:ext cx="127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788200" y="3115080"/>
                <a:ext cx="212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10120" y="4127760"/>
                <a:ext cx="98640" cy="12456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390760" y="4179240"/>
                <a:ext cx="112320" cy="13032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64640" y="4233960"/>
                <a:ext cx="91440" cy="13140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76960" y="428400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13040" y="4302360"/>
                <a:ext cx="84600" cy="12456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31480" y="4331520"/>
                <a:ext cx="84600" cy="12132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39840" y="4347000"/>
                <a:ext cx="108360" cy="1299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4920" y="4326840"/>
                <a:ext cx="94320" cy="12600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87080" y="4358520"/>
                <a:ext cx="96840" cy="12636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87160" y="4378680"/>
                <a:ext cx="97200" cy="12312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74720" y="4387320"/>
                <a:ext cx="108360" cy="12420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601440" y="4358520"/>
                <a:ext cx="90000" cy="12636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1720" y="2344320"/>
                <a:ext cx="1012680" cy="79524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84760" y="4305600"/>
                <a:ext cx="90360" cy="1346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01760" y="4292640"/>
                <a:ext cx="85680" cy="12600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25240" y="4255560"/>
                <a:ext cx="95760" cy="1260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32160" y="4218120"/>
                <a:ext cx="109440" cy="12600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61400" y="4162320"/>
                <a:ext cx="90000" cy="12456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71720" y="2344320"/>
                <a:ext cx="1026720" cy="81072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42560" y="2142360"/>
                <a:ext cx="356760" cy="42084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42560" y="2142360"/>
                <a:ext cx="372240" cy="43524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83360" y="1808640"/>
                <a:ext cx="564120" cy="80784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83360" y="1808640"/>
                <a:ext cx="573840" cy="82368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26200" y="2971800"/>
                <a:ext cx="705600" cy="80640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26200" y="2971800"/>
                <a:ext cx="718200" cy="82332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656080" y="2955960"/>
                <a:ext cx="648720" cy="89100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56080" y="2955960"/>
                <a:ext cx="664200" cy="90828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871720" y="2738160"/>
                <a:ext cx="1026720" cy="35640"/>
                <a:chOff x="2871720" y="2738160"/>
                <a:chExt cx="1026720" cy="35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871720" y="2738160"/>
                  <a:ext cx="102672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71720" y="2738160"/>
                  <a:ext cx="102672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376080" y="2347200"/>
                <a:ext cx="18000" cy="813600"/>
                <a:chOff x="3376080" y="2347200"/>
                <a:chExt cx="18000" cy="8136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376080" y="2347200"/>
                  <a:ext cx="18000" cy="81360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76080" y="2347200"/>
                  <a:ext cx="18000" cy="81360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394440" y="2360160"/>
                <a:ext cx="480600" cy="378000"/>
                <a:chOff x="3394440" y="2360160"/>
                <a:chExt cx="480600" cy="37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394440" y="2360160"/>
                  <a:ext cx="48060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94440" y="2360160"/>
                  <a:ext cx="48060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895480" y="2360160"/>
                <a:ext cx="482040" cy="378000"/>
                <a:chOff x="2895480" y="2360160"/>
                <a:chExt cx="482040" cy="37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895480" y="2360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95480" y="2360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895480" y="2774160"/>
                <a:ext cx="482040" cy="378000"/>
                <a:chOff x="2895480" y="2774160"/>
                <a:chExt cx="482040" cy="3780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895480" y="2774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95480" y="2774160"/>
                  <a:ext cx="48204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394440" y="2774160"/>
                <a:ext cx="475200" cy="378000"/>
                <a:chOff x="3394440" y="2774160"/>
                <a:chExt cx="475200" cy="378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394440" y="2774160"/>
                  <a:ext cx="47520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394440" y="2774160"/>
                  <a:ext cx="47520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flipV="1">
                <a:off x="3043800" y="2457720"/>
                <a:ext cx="313920" cy="2894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153960" y="2538000"/>
                <a:ext cx="207000" cy="211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265200" y="2638080"/>
                <a:ext cx="928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358080" y="2703600"/>
                <a:ext cx="108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3382560" y="2447280"/>
                <a:ext cx="362520" cy="29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382560" y="2534760"/>
                <a:ext cx="250200" cy="212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382920" y="2635200"/>
                <a:ext cx="1432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382560" y="2701080"/>
                <a:ext cx="42840" cy="4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384360" y="2790000"/>
                <a:ext cx="363960" cy="24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384360" y="2790000"/>
                <a:ext cx="261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384720" y="2790000"/>
                <a:ext cx="14400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84360" y="2777040"/>
                <a:ext cx="47160" cy="9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43800" y="2790000"/>
                <a:ext cx="313920" cy="24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3960" y="2790000"/>
                <a:ext cx="207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65200" y="2790000"/>
                <a:ext cx="9288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58080" y="2777040"/>
                <a:ext cx="1080" cy="1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626000" y="4564800"/>
              <a:ext cx="88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26000" y="4573800"/>
              <a:ext cx="874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26000" y="4582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86840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9400" y="549360"/>
            <a:ext cx="3110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940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780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38480" y="879480"/>
            <a:ext cx="2531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948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830840"/>
            <a:ext cx="37558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9840" y="4883040"/>
            <a:ext cx="4581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9840" y="489420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72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69880" y="4890960"/>
            <a:ext cx="417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0880" y="4898880"/>
            <a:ext cx="392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2680" y="5213520"/>
            <a:ext cx="3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71440" y="5869080"/>
            <a:ext cx="4767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24400" y="5878440"/>
            <a:ext cx="15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1440" y="6126120"/>
            <a:ext cx="4862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144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560" y="6373800"/>
            <a:ext cx="2743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056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74960" y="6118200"/>
            <a:ext cx="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4628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7280" y="6858000"/>
            <a:ext cx="2419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862680"/>
            <a:ext cx="2492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5649840"/>
            <a:ext cx="6029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ENTIVE P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PRACTICAL EXERCIS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ANSWER BOO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59840" y="8339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457200" y="279360"/>
          <a:ext cx="6032520" cy="21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9360"/>
                    <a:ext cx="603252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076400" y="3672000"/>
            <a:ext cx="5335560" cy="4130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8800" y="111240"/>
            <a:ext cx="61992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200" y="343080"/>
            <a:ext cx="337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What regulation governs the coding input for Incentive Pa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920" y="290520"/>
            <a:ext cx="361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7360" y="515880"/>
            <a:ext cx="4014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840" y="1008000"/>
            <a:ext cx="4267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What Decision Logic Table (DLT) do you use to determine jump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0160" y="1173240"/>
            <a:ext cx="2614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a soldier authorized Parachute Duty Pay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240" y="1504800"/>
            <a:ext cx="4484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4400" y="1836720"/>
            <a:ext cx="473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How much money does a soldier authorized Demolition Duty Pay receive each month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920" y="1784520"/>
            <a:ext cx="361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600" y="2335320"/>
            <a:ext cx="44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2600" y="2666880"/>
            <a:ext cx="53283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How much money does a soldier authorized Parachute Duty Pay at the High Altitude Low Open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HALO) rate receive each month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6640" y="2612880"/>
            <a:ext cx="321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1880" y="3165480"/>
            <a:ext cx="4676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2240" y="3497400"/>
            <a:ext cx="4319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  What document substantiates authorization of various types of Incentive Pay?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6640" y="3443400"/>
            <a:ext cx="321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880" y="3994200"/>
            <a:ext cx="461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91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0480" y="4218120"/>
            <a:ext cx="4212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 To what part and paragraph in the DODFMR do you refer to learn what th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4800" y="4383000"/>
            <a:ext cx="2133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irements are for aerial flight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" y="4714920"/>
            <a:ext cx="464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9040" y="5046840"/>
            <a:ext cx="434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 SPC Killer is authorized Parachute Duty Pay and makes two jumps while 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6520" y="5213520"/>
            <a:ext cx="4208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leave.  Are these jumps counted for pay purposes?  (List where you f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120" y="5378400"/>
            <a:ext cx="1083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r answer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9760" y="5710320"/>
            <a:ext cx="4035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  List the appropriate paragraph number in the DODFMR that explains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" y="5877000"/>
            <a:ext cx="2795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itlement to each of the listed Incentive Pay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800" y="6208560"/>
            <a:ext cx="4526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rimental Stress Pay                           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160" y="6540480"/>
            <a:ext cx="45388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ngerous Viruses (or Bacteria) Lab Duty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5800" y="6872400"/>
            <a:ext cx="4526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lition Duty                                         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5440" y="7203960"/>
            <a:ext cx="4508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chute Duty                                         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" y="7535880"/>
            <a:ext cx="4497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xic Pesticides Duty                               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5080" y="7869240"/>
            <a:ext cx="4496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xic Fuels (or Propellants) Duty                             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17520" y="419040"/>
          <a:ext cx="56768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419040"/>
                    <a:ext cx="5676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39800" y="3532320"/>
            <a:ext cx="5337000" cy="4130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457200" y="203040"/>
          <a:ext cx="5943600" cy="29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3040"/>
                    <a:ext cx="59436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39800" y="3463920"/>
            <a:ext cx="5353200" cy="4138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203040"/>
          <a:ext cx="6032520" cy="31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603252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06400" y="3602160"/>
            <a:ext cx="5345280" cy="412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17520" y="901800"/>
          <a:ext cx="6032520" cy="212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01800"/>
                    <a:ext cx="603252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806400" y="3532320"/>
            <a:ext cx="5354640" cy="4113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93840" y="558720"/>
          <a:ext cx="585468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58720"/>
                    <a:ext cx="585468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06400" y="4156200"/>
            <a:ext cx="5345280" cy="411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80880" y="482760"/>
          <a:ext cx="603252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60325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46280" y="3816360"/>
            <a:ext cx="5391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80880" y="279360"/>
          <a:ext cx="585468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9360"/>
                    <a:ext cx="5854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941400" y="3809880"/>
            <a:ext cx="5327640" cy="4130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6T20:25:44Z</dcterms:created>
  <dc:creator>Finance School</dc:creator>
  <dc:description/>
  <dc:language>en-US</dc:language>
  <cp:lastModifiedBy>Administrator</cp:lastModifiedBy>
  <cp:lastPrinted>2002-02-22T15:15:18Z</cp:lastPrinted>
  <dcterms:modified xsi:type="dcterms:W3CDTF">2004-09-14T14:56:06Z</dcterms:modified>
  <cp:revision>34</cp:revision>
  <dc:subject>STUDENT ANSWER BOOKLET</dc:subject>
  <dc:title>INCENTIVE PAY</dc:title>
</cp:coreProperties>
</file>